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7CF-51F3-48D2-8DE8-574A5331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147-CA3C-41B5-8527-79AF55B9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499-BE1B-4BB5-B052-4AE5CFE5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593-677B-40F1-B234-07F3B91E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092-4F93-4DDF-A8BD-A0D866A2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8CB-0261-49FF-9349-73749DD6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CA8-21E8-4999-BA42-F7BD96A1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75F-4E3F-4A03-9B5C-98257BEE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141-363F-4E85-B82D-914BAC67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C58-F4A8-4189-B049-28B395D2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A82-BEA6-4F2D-8901-4F44F3F6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024-D06F-4C60-9690-8B63A929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8B32-CC68-4089-A040-EDE3692C72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9718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Nina"/>
              </a:rPr>
              <a:t>EEX 6759 Transition Planning and Interdisciplinary Teaming for Students with Disabilities – Summer 201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Nina"/>
              </a:rPr>
              <a:t>Saturday, June 11, 20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MPj04285650000[1]"/>
          <p:cNvPicPr/>
          <p:nvPr/>
        </p:nvPicPr>
        <p:blipFill>
          <a:blip r:embed="rId1"/>
          <a:stretch/>
        </p:blipFill>
        <p:spPr>
          <a:xfrm>
            <a:off x="1295280" y="380880"/>
            <a:ext cx="68580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Continuity from Birth to 8 years – Key Elements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962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lies as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d Leadership (school, family, commun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hensive &amp; Responsive Ser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ure and Home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and Skil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ropriate Care &amp;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on of Partnership 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Elementary Conside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cific needs of the individual (IE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bility specific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-Term Projections (Communication, Self Determination, Skills of Independence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 prefer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Education Curricu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Elementary to Middle Scho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al differ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ctations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um of care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ational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ential Safety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Middle School to High Scho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of the same issues in Elementary to Middle – just a more intense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should be on a TI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will have made a special v/s standard diploma cho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Helpful Teacher Resourc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ttp://www.ihdi.uky.edu/ktcp/materials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tucky Transition Collabor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chool to Work Progra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*Are programs designed to assist students with disabilities in transitioning from school to work/higher educ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(Adapted from FL.-DOE,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Arrang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ily Living Sk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zation/Leisure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my student(s) need to lear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hould I teach in regard to transi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I tie in transition outcomes to educational standar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I best work with outside agencies to provide more transition-based opportunities for my student(s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can I contact for assistance with the transition proc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(Adapted from Wehmen &amp; Thoma, 200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ol to Work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-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 to As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ol to Work -Support Syst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room 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tionally-based 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Administrators (Counsel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loyments Speci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side Service Provi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b Coa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lies of the individ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ocational Rehabilitation - Florid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ttp://www.rehabworks.org/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chool to Work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Basic Checklist (14-15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more about your dis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ipate in Transition 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to set goals for your fu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what transition planning means for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high school diploma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 researching career choices/opportun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 out volunteer or part-time work experi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ck on school employment-based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.R.-FL. DOE,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IDEA – Part C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 for Infants and Toddlers – ages birth to 36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State – designated “lead” Agency (Florida - Early Steps/Children’s Medical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place to address developmental delays – proactive 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chool to Work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Basic Checklist (16-17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ite outside agencies to IEP Mee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ransportation needs/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medical/psychological care resources (if necessa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post-high school living arrang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post-high school training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y for additional outside agency assistance (as need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.R.-FL. DOE,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chool to Work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Basic Checklist (18-22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der applying for SSI/SSDI benefits, if appropr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 guardianship issues/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les) Register for Selective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with outside agencies to help explore/find community employment/educational opportunities (post-high scho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.R.-FL. DOE,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ol to Work Prepa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 Occupational, Life, and Social Skill sets, along with academic-related cont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quire about appropriate contacts (at your 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referrals to appropriate outside agencies, if applic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e families into process/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cate duties as applicable– don’t try to do it al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ol to Work Follow Alo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ess, assess, assess (data driven), per the individual’s IEP plan/go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hedule time to meet with individual students (possibly famili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closely with the team (families, school-based staff, and/or outside agencies, if applic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MEMB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uccess of the individual is the bottom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chool to Work or Postsecondary Educatio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numbers of students w/disabilities are entering postsecondary education to obtain further skills and knowledge as a result of a combination of legislative, academic, and social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ilson, 199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do students need to know how to do to prepare for postsecondary education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documentation of Dis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ssessment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sion M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ition Plann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achers Can…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lp set career go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about supports and services at colle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of assistive technology, if necess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f-Management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to build a network of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(Gretzel &amp; Briel, 200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ol to Work Pro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chool-to-work is 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about finding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in life you love so mu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you’d do it for free, b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you learn to do it 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well you get paid for i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W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Public Forum Institu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200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b5481"/>
                </a:solidFill>
                <a:latin typeface="Tahoma"/>
              </a:rPr>
              <a:t>Critical Domains of Transition Instruction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Community partici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Daily l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mploy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Finan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Independent l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Leisure/recre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Post-secondary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Relationship/social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ransportation/mo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Vocational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Writing a sound Objective: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ed to specify relevant and necessary dimensions of behavio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dentify the Topograph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observable, measurable description of  behavior (what does the behavior look lik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dentify the Context/Assistance Leve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what type of cue (environment, materials, persons) will be provided to encourage the behavior and what level of independence must be achie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et Criterion Rate (rate and accuracy) 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often will the behavior occur (ra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precise or correct must the behavior be (accuracy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IDEA – Part B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6 months to 22 years – children and youth special (Florida – usually, this begins with a DD labe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educational services (per IDEA) for students 2 – 22 years of 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-K in Florida – 3 to 5 or 6 years of 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es related to C to B transition include: diagnostics, treatment determinations, eligible determin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Department of Education – IDEA Part B &amp; Part 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idea.ed.gov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Steps/Children’s Medical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cms-kids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Center on Secondary Transition (NCSE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ncset.org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Dissemination Center for Children with Disabilities (NICHCY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nichcy.org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ving from Part C to Part 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ces between IFSP and I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eling in the school system v/s diagnosis = eligibility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, where, how, who of service provision – lots of changes for fami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Transition from Pre-K – Fact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l-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-based labe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al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apeutic and intervention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uma for parent and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nse preparation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Transition to Kindergarten</a:t>
            </a:r>
            <a:br>
              <a:rPr sz="4800"/>
            </a:b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Helpful Website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ttp://www.fmhi.usf.edu/institute/pubs/pdf/cfs/fcpi/transition.ht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MCBD07079_0000[1]"/>
          <p:cNvPicPr/>
          <p:nvPr/>
        </p:nvPicPr>
        <p:blipFill>
          <a:blip r:embed="rId1"/>
          <a:stretch/>
        </p:blipFill>
        <p:spPr>
          <a:xfrm>
            <a:off x="5943600" y="3835440"/>
            <a:ext cx="32004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Pre-K to K Transition Plannin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-Centered Communication (Portfolio, Transition Book, CD/DV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to Teacher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essment, Identification, Intervention prepa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mily-based commun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ropriate agency referrals and/or collabo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orida’s Transition Project for Infants, Young Children and Their Famil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floridatransitionproject.ucf.edu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MPj04309860000[1]"/>
          <p:cNvPicPr/>
          <p:nvPr/>
        </p:nvPicPr>
        <p:blipFill>
          <a:blip r:embed="rId1"/>
          <a:stretch/>
        </p:blipFill>
        <p:spPr>
          <a:xfrm>
            <a:off x="4495680" y="1219320"/>
            <a:ext cx="3733920" cy="249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Pj04308400000[1]"/>
          <p:cNvPicPr/>
          <p:nvPr/>
        </p:nvPicPr>
        <p:blipFill>
          <a:blip r:embed="rId2"/>
          <a:stretch/>
        </p:blipFill>
        <p:spPr>
          <a:xfrm>
            <a:off x="4952880" y="3657600"/>
            <a:ext cx="39625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Continuity in Early Childhood: A Framework for Home, School, and Community Linkag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by the Regional Educational Laboratories’ Early Childhood Collaboration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nsored by: the Administration on Children, Youth, and Families, the US Dept. of Health &amp; Human Services, and the Office of Educational Research and Improvement – US 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terrifictransitions.org/Continuity%20in%20Early.pd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55:05Z</dcterms:created>
  <dc:creator>University Of Central Florida</dc:creator>
  <dc:description/>
  <dc:language>en-US</dc:language>
  <cp:lastModifiedBy>Gracejoy Hauser</cp:lastModifiedBy>
  <dcterms:modified xsi:type="dcterms:W3CDTF">2011-06-11T13:29:31Z</dcterms:modified>
  <cp:revision>91</cp:revision>
  <dc:subject/>
  <dc:title>School to Work Transition</dc:title>
</cp:coreProperties>
</file>